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EDB3-1FB7-46EA-89C6-80AA41AEF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75A2-E8CD-4718-88D3-33CB511CFB5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D4DE-E721-41B9-BC84-3718365EE92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C06B-9638-4CCD-912B-C6D9C72F341E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1860-34C8-4A94-85A6-E7588712011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23E3-A6B6-48E4-9FB0-B2B01FF28A2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890A-B94E-450A-A368-B292511B04B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4A97-CE76-44A3-B784-AC07D6A13FA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5628-B80B-4590-998A-2087A75DB6A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95BC-3733-4869-A196-A2B377746FD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C72E-BDC1-4F3E-B56C-470242D7397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252A-ECBE-4779-B625-070081986B8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EA8F-662A-4E56-AB2D-9BAE165556E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68E3-4A15-426D-9B41-0DCE83E7C23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C62C-5D2B-4517-BF28-1993E092236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DEF7-BD59-4292-8106-77DEA3278A3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0C31-755B-40F4-8A19-C0BE65110B8B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D3F0-672E-4797-8037-D0712E8A6E3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E40A-7357-4FC6-AB9C-E6E54B3E7EB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5E8F-F3D5-44B5-A68E-80C8A6D9774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262-6E98-4F37-B6CF-1D253683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D503-38C2-4ACD-9182-9172CA70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DE8C-CEBB-442A-99C6-ED6C878D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9E8B-070F-40EB-B545-CE183374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9289-D308-4BD2-9C1F-A24FBD0E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0434-2C8B-4E8F-8127-6E85FCED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AD4E-7413-47A4-A305-6889DD20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DA49-8075-4D91-A043-5F59C895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7632-45A7-44A6-95CF-9ADA760C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144B-4EC8-4203-BB3C-90ED4059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65C4-FABA-4F33-8291-90B35EC6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863E-A844-461D-A23A-384777B0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E805-9884-4B18-963A-FEF06162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FDCF-0BC4-458F-8DBF-5CA8E493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EC27-7F3D-434F-BE9A-39F96A51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0789-1743-4B09-A95F-E56779D8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7321-FDEB-4866-9839-E703C27F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7C1F-3A0F-405E-A007-121A38EF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00DE-2BF0-4A56-983A-CAB4FC58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EA88-93B4-42FD-AD72-C226F396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0B8D-176A-4F5D-B0F5-8CB6D500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D274-3177-4CB7-818E-A4C18A6E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9EDD-4C06-4A85-BA22-883FC48B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27DE-5608-43D6-A017-BE58F94D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C86C-438D-47AB-ACBC-9A0376013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EABC-EDA0-4A97-BC1B-CE7484938029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ltf.austraining.com.a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Endeavour Language</a:t>
            </a:r>
            <a:br>
              <a:rPr sz="4400"/>
            </a:b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Teacher Fellowship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-228960" y="396252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orinne Pixton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Tori Robson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5" name="Picture 4" descr="IMG_0677"/>
          <p:cNvPicPr/>
          <p:nvPr/>
        </p:nvPicPr>
        <p:blipFill>
          <a:blip r:embed="rId1"/>
          <a:stretch/>
        </p:blipFill>
        <p:spPr>
          <a:xfrm>
            <a:off x="5029200" y="3352680"/>
            <a:ext cx="2459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resources photo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Using resources in clas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 Kindy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Video of Kindy teaching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ultural visit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4787280" y="194472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Van Gogh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5"/>
          <p:cNvSpPr/>
          <p:nvPr/>
        </p:nvSpPr>
        <p:spPr>
          <a:xfrm>
            <a:off x="1514880" y="95076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Cézann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a Marche des Roi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Video of la marche in Aix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telier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Vos idées!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 What to look out for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ctivities with resourc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ultural insight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etworking with other teachers Sourcing authentic resources in Sydney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here are we headed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129320" y="2097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1) The ELTF experienc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130400" y="2782800"/>
            <a:ext cx="730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2) Benefits of the program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Making connections with French teacher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Networking with international teacher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Locating authentic resource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Using resources and teachers’ experiences in clas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206000" y="545004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3) Exchanging Idea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he ELTF Experien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00356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053000" y="2097000"/>
            <a:ext cx="5227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3 weeks in Aix en Provence, Franc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Language study each day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ultural excursion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me stay arrangement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ll expenses included!!!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How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pplications open May 2012, close Augus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re-service / current teacher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t done the program in the last 5 year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995421"/>
                </a:solidFill>
                <a:uFillTx/>
                <a:latin typeface="Arial"/>
                <a:hlinkClick r:id="rId1"/>
              </a:rPr>
              <a:t>www.eltf.austraining.com.au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         </a:t>
            </a:r>
            <a:r>
              <a:rPr b="1" lang="en-US" sz="6200" spc="-1" strike="noStrike">
                <a:solidFill>
                  <a:srgbClr val="212164"/>
                </a:solidFill>
                <a:latin typeface="Arial"/>
              </a:rPr>
              <a:t>Why?</a:t>
            </a:r>
            <a:endParaRPr b="0" lang="en-US" sz="6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Making connections with</a:t>
            </a:r>
            <a:br>
              <a:rPr sz="4400"/>
            </a:b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ench teacher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Networking with international teacher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Video of English class in Franc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enpal progra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hotos of Penpal letter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ocating authentic resourc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0:16:00Z</dcterms:created>
  <dc:creator>Tori Robson</dc:creator>
  <dc:description/>
  <dc:language>en-US</dc:language>
  <cp:lastModifiedBy>Victoria Robson</cp:lastModifiedBy>
  <dcterms:modified xsi:type="dcterms:W3CDTF">2011-08-29T23:37:47Z</dcterms:modified>
  <cp:revision>74</cp:revision>
  <dc:subject/>
  <dc:title>PowerPoint Presentation</dc:title>
</cp:coreProperties>
</file>